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84C31-C58E-49EC-BCA8-068E56B95523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Unilateral implant-borne crown replacing the missing maxillary right lateral inciso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omparison between the judgments of different treatment outcomes in the 3 respondent groups between 2005 and 2015. ∗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&lt;0.05; ∗∗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&lt;0.01; ∗∗∗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&lt;0.001; ∗∗∗∗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 &lt;0.000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Space closure with canine substitution for a missing maxillary right lateral incisor and compensatory extraction of the maxillary left first premolar. The right canine has undergone enameloplasty, bleaching, and composite bond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Normal dentition with no missing tee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Implant-borne crown replacing the maxillary left lateral inciso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Space closure with bilateral canine substitutions of the missing maxillary lateral incisors. The maxillary canines have undergone enameloplasty, bleaching, and composite bond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ilateral implant-borne crowns replacing both maxillary lateral inciso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ilateral space closure with canine substitutions of the missing maxillary lateral incisors. The canines have undergone enameloplasty, bleaching, and composite bond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Normal dentition with no missing tee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Normal dentition with no missing tee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lsevier.com/termsandcondition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260360"/>
            <a:ext cx="8640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Esthetic evaluation of implants vs canine substitution in patients with congenitally missing maxillary lateral incisors: Are there any new insights?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Ute Schneider, Lorenz Moser, Marzia Fornasetti, Michele Piattella, Giuseppe Siciliani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 150, Issue 3, Pages 416-424 (September 2016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ajodo.2016.02.0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2360" y="1514520"/>
            <a:ext cx="6350040" cy="347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2360" y="2116080"/>
            <a:ext cx="6350040" cy="227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22360" y="1517760"/>
            <a:ext cx="6350040" cy="347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22360" y="1517760"/>
            <a:ext cx="6350040" cy="347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22360" y="1512720"/>
            <a:ext cx="6350040" cy="3483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22360" y="1517760"/>
            <a:ext cx="6350040" cy="3473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2360" y="1512720"/>
            <a:ext cx="6350040" cy="3483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2360" y="1506600"/>
            <a:ext cx="6350040" cy="349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2360" y="1517760"/>
            <a:ext cx="6350040" cy="347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22360" y="1517760"/>
            <a:ext cx="6350040" cy="347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6 150, 416-424DOI: (10.1016/j.ajodo.2016.02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